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4516E-D822-4811-9777-2796551050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56DBE-3FB9-46B6-B51C-9182E543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8B2CA-C884-4AC1-9D1F-6A8C7193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47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00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71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47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00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CE5DE-4138-4134-89B9-FDD04326CA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FB02-E3CA-4BBE-A452-FD73B809FE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1D33-E3AF-4C8F-A3A4-19853A6968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3CE0-30DE-482C-8249-ABBBA69145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EC53-0DAD-4DC0-B2E6-9EB76AD0D2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62D1-A8B2-46B0-AD8A-E2D86D9203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6800" y="227160"/>
            <a:ext cx="8691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A2FF-11D3-447A-AD71-B4B9F1ACBB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EF6D-2E81-4713-9C09-B4756F52D1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D38AC-084E-4B8C-A149-4B784FA0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1B41-D9E5-4930-98F1-6F589D63EF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C182-FFDD-49D4-948E-D75A629C5E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68CB-BE24-439A-A988-04154A192E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F4FC-7074-4760-A201-B31D6187D4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47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00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71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47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00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F3FA-37A2-44F9-9162-3D54E09E1C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0B79-9857-4CE0-8844-6CAE0DE2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37CBC-D0D6-42F7-A646-62854632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6A4D2-1DDD-416D-8EAB-81D98960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27160"/>
            <a:ext cx="8691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612EA-E636-45BD-94B4-AA15896F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56FD1-F9AC-4A83-9AA1-03D7F73E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4CA99-130C-494F-A238-B859BBF9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6C32C-4644-4BD0-94BD-1D56C0AD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911160" indent="-22068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911160" indent="-22068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22824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8CF130FD-917A-4754-86BF-5CF4F311A239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371840" y="6377040"/>
            <a:ext cx="1865520" cy="414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pril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271160"/>
            <a:ext cx="4114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ldNum" idx="3"/>
          </p:nvPr>
        </p:nvSpPr>
        <p:spPr>
          <a:xfrm>
            <a:off x="22824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B39B827B-7CD0-43C4-A343-52DC806B2658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371840" y="6377040"/>
            <a:ext cx="186552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1271520"/>
            <a:ext cx="411480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Agilent</a:t>
            </a:r>
            <a:br>
              <a:rPr sz="2800"/>
            </a:b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riple Play Analy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1278000"/>
            <a:ext cx="41148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to quickly solve problems in today’s complex Triple Play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171960" cy="320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495680" y="4572000"/>
            <a:ext cx="4191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riple Play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J6900A Triple Play Analyzer Measurements (Video Highlights (RTP Statistics)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B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C 3357 (Hole size, duration and dis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P MDI DF &amp; LR (Min, Max and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P Jitter (Min, Max and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P Loss (Min, Max and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P out of sequence packets (Min, Max and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 (Min, Max and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J6900A Triple Play Analyzer Measurements (Video Highlights (MPEG Transport Stream)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J6900A Triple Play Analyzer Measurements (Video Highlights (MPEG Transport Stream)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EG-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Transport Stream &amp; Program Statist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I Delay Factor &amp; Lost Rate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 &amp; PMT Rate, Errors, etc. (PSI)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R Rate, Errors, etc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urious Packets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 Byte Errors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 Errors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J6900A Triple Play Analyzer Measurements (Video Highlights (MPEG Transport Stream)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EG-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PID statistics)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ll values are per P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t Packets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D Dropou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plicate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ing of Real-time Video and Aud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J6900A Triple Play Analyzer Measurements (Video Highlights (MPEG PES Video Statistics)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7160" y="1266840"/>
            <a:ext cx="868824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J6900A Triple Play Analyzer Measurements (Video Highlights (MPEG PES Video Statistics)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ect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 MOS Degra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P Pattern (length, matches, mismatch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 Statistics (Throughput (Min, Max &amp; Avg.), Loss, etc) for I, B and P frames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ing of Video in Nativ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J6900A Triple Play Analyzer Measurements (Video Highlights (Video Control Statistics)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7160" y="1266840"/>
            <a:ext cx="868824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J6900A Triple Play Analyzer Measurements (Video Highlights (Video Control Statistics)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ers (STB’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dder diagram (shows Joins, Leaves, RTSP commands (Play, Pause, Fast Forward, Rewind and S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TV ICC and IPTV Zap response times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, Max and Avg. for Failed Joins, Leav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J6900A Triple Play Analyzer Measurements (Video Highlights (Active IGMP Statistics)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7160" y="1266840"/>
            <a:ext cx="868824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J6900A Triple Play Analyzer Measurements (Video Highlights (Active IGMP Statistics)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 Grou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dder diagram (shows Joins, Leaves, RTSP commands (Play, Pause, Fast Forward, Rewind and S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s the following measurement val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ers, Joins, Failed Joins, Leaves, Group-Specific Queries, Unanswered Queries, Zap Time and Respons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Why Carries are moving to  </a:t>
            </a:r>
            <a:br>
              <a:rPr sz="2400"/>
            </a:b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Triple Play</a:t>
            </a:r>
            <a:endParaRPr b="1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Sav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s are Demanding it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hannels are being deli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services (On-Line Gaming, TV email, VOD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ndling costs (Benefit for customers and carri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ce to be first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events only on IP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ddition of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J6900A Triple Play Analyzer Measurements Network Vitals Statistics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28720" y="1266840"/>
            <a:ext cx="748332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J6900A Triple Play Analyzer Measurements Network Vitals Statistics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specific Measu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P Packets, Broadcasts Throughput, Multicast Throughput, TTL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(DSL at the ho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est gear for Triple play Analy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IPTV is not stable (MST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op Boxes are under pow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L modem (Residential Gateways) are under pow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rance of 24x7 up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mt. Systems are needed for the E2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Challenges the ‘Providers’ face</a:t>
            </a:r>
            <a:br>
              <a:rPr sz="2400"/>
            </a:br>
            <a:endParaRPr b="1" lang="en-US" sz="2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MPEG Transport Stream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696080" y="76320"/>
            <a:ext cx="1287720" cy="865080"/>
            <a:chOff x="7696080" y="76320"/>
            <a:chExt cx="1287720" cy="865080"/>
          </a:xfrm>
        </p:grpSpPr>
        <p:sp>
          <p:nvSpPr>
            <p:cNvPr id="92" name="Gear"/>
            <p:cNvSpPr/>
            <p:nvPr/>
          </p:nvSpPr>
          <p:spPr>
            <a:xfrm>
              <a:off x="8409960" y="76320"/>
              <a:ext cx="573840" cy="3967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96080" y="239760"/>
              <a:ext cx="686160" cy="4741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141040" y="414720"/>
              <a:ext cx="762480" cy="526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868400" y="420840"/>
            <a:ext cx="3924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lvl="3" marL="1230480" algn="r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006aac"/>
                </a:solidFill>
                <a:latin typeface="Agilent TT Cond"/>
              </a:rPr>
              <a:t>How does it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447920" y="4572000"/>
            <a:ext cx="5746680" cy="1387440"/>
            <a:chOff x="1447920" y="4572000"/>
            <a:chExt cx="5746680" cy="1387440"/>
          </a:xfrm>
        </p:grpSpPr>
        <p:pic>
          <p:nvPicPr>
            <p:cNvPr id="97" name="" descr=""/>
            <p:cNvPicPr/>
            <p:nvPr/>
          </p:nvPicPr>
          <p:blipFill>
            <a:blip r:embed="rId1"/>
            <a:srcRect l="0" t="8844" r="0" b="8844"/>
            <a:stretch/>
          </p:blipFill>
          <p:spPr>
            <a:xfrm>
              <a:off x="1462320" y="4954680"/>
              <a:ext cx="573228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447920" y="4572000"/>
              <a:ext cx="0" cy="1387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762120" y="3962520"/>
            <a:ext cx="73152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aximum of seven MPEG packets packed into a single UDP or RTP packet per RFC2250. RFC2733 or CoP3 define the RTP payload format to allow forward error correcting of real-time med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Figure 4"/>
          <p:cNvPicPr/>
          <p:nvPr/>
        </p:nvPicPr>
        <p:blipFill>
          <a:blip r:embed="rId2"/>
          <a:stretch/>
        </p:blipFill>
        <p:spPr>
          <a:xfrm>
            <a:off x="304920" y="914400"/>
            <a:ext cx="3200400" cy="2432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Figure 3"/>
          <p:cNvPicPr/>
          <p:nvPr/>
        </p:nvPicPr>
        <p:blipFill>
          <a:blip r:embed="rId3"/>
          <a:stretch/>
        </p:blipFill>
        <p:spPr>
          <a:xfrm>
            <a:off x="3657600" y="1066680"/>
            <a:ext cx="47624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J6900A Triple Play Analyzer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ce, Video and Data all in on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 End\Back End Design (GUI and MySQL backend Datab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Net Licen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ments for all three services are done simultaneous in one instance of th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modes to run from: DNA via Multi-user Server, NIC and Post Process (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J6900A Triple Play Analyzer Measurements (Triple Play Statistics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7160" y="1266840"/>
            <a:ext cx="868824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J6900A Triple Play Analyzer Measurements (Triple Play Statistics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s Voice, Video and Data measurement results all in one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Protocol Util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Dash Board” Measur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J6900A Triple Play Analyzer Measurements (Voice &amp; Video Highlights (RTP Statistics)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7160" y="1266840"/>
            <a:ext cx="868824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J6900A Triple Play Analyzer Measurements (Voice Highlights (RTP Statistics)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 (Min, Max and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-Factor (Min, Max and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yload Identif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 Measurements (Min, Max and Avg.  for Packet count, Byte count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tter (Min, Max and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Packets (Total, Min, Max and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Audio output for the VOIP call (listen to the active c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5:14:34Z</dcterms:created>
  <dc:creator>Michael Stevens</dc:creator>
  <dc:description/>
  <dc:language>en-US</dc:language>
  <cp:lastModifiedBy>Michael Stevens</cp:lastModifiedBy>
  <dcterms:modified xsi:type="dcterms:W3CDTF">2007-05-31T00:18:49Z</dcterms:modified>
  <cp:revision>14</cp:revision>
  <dc:subject/>
  <dc:title>Slide 1</dc:title>
</cp:coreProperties>
</file>